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6.png" ContentType="image/png"/>
  <Override PartName="/ppt/media/image13.jpeg" ContentType="image/jpeg"/>
  <Override PartName="/ppt/media/image4.png" ContentType="image/png"/>
  <Override PartName="/ppt/media/image3.png" ContentType="image/png"/>
  <Override PartName="/ppt/media/image24.jpeg" ContentType="image/jpeg"/>
  <Override PartName="/ppt/media/image19.jpeg" ContentType="image/jpeg"/>
  <Override PartName="/ppt/media/image5.png" ContentType="image/png"/>
  <Override PartName="/ppt/media/image10.png" ContentType="image/png"/>
  <Override PartName="/ppt/media/image23.jpeg" ContentType="image/jpeg"/>
  <Override PartName="/ppt/media/image21.jpeg" ContentType="image/jpeg"/>
  <Override PartName="/ppt/media/image16.png" ContentType="image/png"/>
  <Override PartName="/ppt/media/image2.png" ContentType="image/png"/>
  <Override PartName="/ppt/media/image25.jpeg" ContentType="image/jpe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4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04EE9-BE34-4DDA-9805-F1213E2A096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4AD2F-9F79-42D3-8D50-FE7A27375AD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5F8F0-E858-4833-8466-CEAB3BB425C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4BB88-DF41-406B-B85C-6517AFC33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5E1E4-023C-46E3-A53B-1C12FB78B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B1448-1973-41E4-89E9-2E9486D61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8432F-167F-46BB-8257-9C9459491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0307A-262E-4C2C-AB26-0453B2613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259C2-83D8-465F-8CF1-1FFD7A214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B8ADF-61E3-4847-AFBC-F045CFA93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BCDCB-E7CC-442B-A540-D58654100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54EC4-AE22-4594-9B40-E1F890739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2CD1C-29DD-49BA-8DE5-D77866ADF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A1F40-01AE-42E2-91DB-F1038F9C7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418B5-F493-4A51-8001-801AB1ABE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D28E5-25A7-4D81-A6BF-62AB68760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923C8-DF7C-4027-8A88-ED7DE1CCE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546FC-6563-46AC-AAFE-41C8AE2E1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0AB21-7B4E-4F2F-A0D3-2C25CC4E7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E6AEA-DE21-412D-AC0E-3E90918A5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4EB1BB-AE56-457B-A661-88B6B4736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B847EF-0F0E-47E2-A243-69FD2CDBC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8C54D8-BC8F-40B9-BA05-415B71DCE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14FB97-F1CF-4F06-8036-8543D703B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9D2C50-994B-4477-A0E9-8A510FC72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57ACF-29E1-4349-9347-44FACDBD9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7D713F-EF36-4ABE-8F7E-D026D1593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386F29-4ADA-4BEB-93BE-918395544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72ABD8-C8B0-45B1-843C-C3F148193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DF92A4-0916-41C2-BF92-BE3A07F73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59BE86-9D2A-45BD-8082-1AB147B6F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D8A8D1-DFD6-450B-96D6-FBCED3F46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3E1DC7-D123-43F5-9911-CA862F9D3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D96429-A3E1-406A-9822-971894E98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57B887-00E4-41B0-BB87-5D60069BF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AAFB4C-3393-4672-BE51-9DD421064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C38E3-19A9-4AF7-8C5F-78CE3F21B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5FF9FA-F02B-4FB9-8A87-2447DD5D1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3B66B1-CD9E-4198-B651-B558041C5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8EF1D1-9BEC-4804-9218-C7936D48D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0DC1A8-7FF5-4EF4-91BA-F9B336CB2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2FAF3C-91D5-45FE-8D1A-0C970D5BD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9B3037-7FEE-4147-8A5A-E70C72B84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A916D1-7D51-4D86-B7A4-EDEC77B5D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DF9E7D-7515-4AC3-A57E-45CD781F6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677454-3EBB-4666-B221-E0BAE9BC0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1C459-560B-4E6B-8D34-A6C048DE4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88ADA-4DB4-4293-BB03-6149A60B7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B51D9-874E-490C-A37B-402D92668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148AF-21CE-448C-A6B8-6ADC76E19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2A661-1AD8-4B58-B62D-D032C6817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80D21-9778-4F0A-9469-F9583FF04A8B}" type="slidenum">
              <a:rPr b="1" lang="ru-RU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1755C-D926-410F-91A7-B60C46B8A463}" type="slidenum">
              <a:rPr b="1" lang="ru-RU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2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13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16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20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5CF36-CB1D-4438-BDEB-378A5F59D53F}" type="slidenum">
              <a:rPr b="1" lang="ru-RU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6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66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67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70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71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5F0D4-7B95-4BFA-A847-8CC5E13206BC}" type="slidenum">
              <a:rPr b="1" lang="ru-RU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250560" y="4723920"/>
            <a:ext cx="5257800" cy="122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4280">
              <a:spcBef>
                <a:spcPts val="34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04040"/>
                </a:solidFill>
                <a:latin typeface="Trebuchet MS"/>
              </a:rPr>
              <a:t>Учитель начальных классов 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34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04040"/>
                </a:solidFill>
                <a:latin typeface="Trebuchet MS"/>
              </a:rPr>
              <a:t>Вайчик Светлана Николаевна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34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04040"/>
                </a:solidFill>
                <a:latin typeface="Trebuchet MS"/>
              </a:rPr>
              <a:t>ГБОУ лицей №470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34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04040"/>
                </a:solidFill>
                <a:latin typeface="Trebuchet MS"/>
              </a:rPr>
              <a:t>Калининского района г. Санкт-Петербурга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22" name="Заголовок 1" descr=""/>
          <p:cNvPicPr/>
          <p:nvPr/>
        </p:nvPicPr>
        <p:blipFill>
          <a:blip r:embed="rId1"/>
          <a:stretch/>
        </p:blipFill>
        <p:spPr>
          <a:xfrm>
            <a:off x="901800" y="158760"/>
            <a:ext cx="7772400" cy="240840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2" descr="C:\Users\Arvay\AppData\Local\Microsoft\Windows\Temporary Internet Files\Content.IE5\VJJI3RY1\MC900382566[1].jpg"/>
          <p:cNvPicPr/>
          <p:nvPr/>
        </p:nvPicPr>
        <p:blipFill>
          <a:blip r:embed="rId2"/>
          <a:stretch/>
        </p:blipFill>
        <p:spPr>
          <a:xfrm>
            <a:off x="4121280" y="2997360"/>
            <a:ext cx="4627440" cy="334476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Заголовок 1" descr=""/>
          <p:cNvPicPr/>
          <p:nvPr/>
        </p:nvPicPr>
        <p:blipFill>
          <a:blip r:embed="rId1"/>
          <a:stretch/>
        </p:blipFill>
        <p:spPr>
          <a:xfrm>
            <a:off x="1262160" y="133200"/>
            <a:ext cx="6510240" cy="131148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 txBox="1"/>
          <p:nvPr/>
        </p:nvSpPr>
        <p:spPr>
          <a:xfrm>
            <a:off x="4284720" y="1197000"/>
            <a:ext cx="4464000" cy="29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Через нос проходит в грудь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И обратный держит путь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Он невидимый, и всё же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Без него мы жить не можем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26" name="Picture 3" descr="C:\Users\Arvay\AppData\Local\Microsoft\Windows\Temporary Internet Files\Content.IE5\ZSX5XP99\MP900442335[1].jpg"/>
          <p:cNvPicPr/>
          <p:nvPr/>
        </p:nvPicPr>
        <p:blipFill>
          <a:blip r:embed="rId2"/>
          <a:stretch/>
        </p:blipFill>
        <p:spPr>
          <a:xfrm>
            <a:off x="250920" y="2825640"/>
            <a:ext cx="3960720" cy="34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Рисунок 3" descr=""/>
          <p:cNvPicPr/>
          <p:nvPr/>
        </p:nvPicPr>
        <p:blipFill>
          <a:blip r:embed="rId1"/>
          <a:stretch/>
        </p:blipFill>
        <p:spPr>
          <a:xfrm>
            <a:off x="5651640" y="189000"/>
            <a:ext cx="3905280" cy="3581280"/>
          </a:xfrm>
          <a:prstGeom prst="rect">
            <a:avLst/>
          </a:prstGeom>
          <a:ln w="0">
            <a:noFill/>
          </a:ln>
        </p:spPr>
      </p:pic>
      <p:pic>
        <p:nvPicPr>
          <p:cNvPr id="228" name="Рисунок 4" descr=""/>
          <p:cNvPicPr/>
          <p:nvPr/>
        </p:nvPicPr>
        <p:blipFill>
          <a:blip r:embed="rId2"/>
          <a:stretch/>
        </p:blipFill>
        <p:spPr>
          <a:xfrm>
            <a:off x="555480" y="4336920"/>
            <a:ext cx="2963880" cy="2135160"/>
          </a:xfrm>
          <a:prstGeom prst="rect">
            <a:avLst/>
          </a:prstGeom>
          <a:ln w="0">
            <a:noFill/>
          </a:ln>
        </p:spPr>
      </p:pic>
      <p:pic>
        <p:nvPicPr>
          <p:cNvPr id="229" name="TextBox 6" descr=""/>
          <p:cNvPicPr/>
          <p:nvPr/>
        </p:nvPicPr>
        <p:blipFill>
          <a:blip r:embed="rId3"/>
          <a:stretch/>
        </p:blipFill>
        <p:spPr>
          <a:xfrm>
            <a:off x="554040" y="1530360"/>
            <a:ext cx="3395520" cy="2828880"/>
          </a:xfrm>
          <a:prstGeom prst="rect">
            <a:avLst/>
          </a:prstGeom>
          <a:ln w="0">
            <a:noFill/>
          </a:ln>
        </p:spPr>
      </p:pic>
      <p:pic>
        <p:nvPicPr>
          <p:cNvPr id="230" name="Заголовок 1" descr=""/>
          <p:cNvPicPr/>
          <p:nvPr/>
        </p:nvPicPr>
        <p:blipFill>
          <a:blip r:embed="rId4"/>
          <a:stretch/>
        </p:blipFill>
        <p:spPr>
          <a:xfrm>
            <a:off x="109440" y="133200"/>
            <a:ext cx="6510600" cy="1311480"/>
          </a:xfrm>
          <a:prstGeom prst="rect">
            <a:avLst/>
          </a:prstGeom>
          <a:ln w="0">
            <a:noFill/>
          </a:ln>
        </p:spPr>
      </p:pic>
      <p:sp>
        <p:nvSpPr>
          <p:cNvPr id="231" name="TextBox 2"/>
          <p:cNvSpPr/>
          <p:nvPr/>
        </p:nvSpPr>
        <p:spPr>
          <a:xfrm>
            <a:off x="3780000" y="3770280"/>
            <a:ext cx="312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Летом он бывает тёплым,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Веет холодом зимой,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Когда красит иней стёкла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И лежит на них каймой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2" name="TextBox 5"/>
          <p:cNvSpPr/>
          <p:nvPr/>
        </p:nvSpPr>
        <p:spPr>
          <a:xfrm>
            <a:off x="5363640" y="5157720"/>
            <a:ext cx="2957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Мы его не замечаем,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Мы о нём не говорим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Просто мы его вдыхаем-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Ведь он нам необходим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extBox 2"/>
          <p:cNvSpPr/>
          <p:nvPr/>
        </p:nvSpPr>
        <p:spPr>
          <a:xfrm>
            <a:off x="1763640" y="635040"/>
            <a:ext cx="59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rebuchet MS"/>
              </a:rPr>
              <a:t>Состав и свойства воздуха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4" name="Диаграмма 4" descr=""/>
          <p:cNvPicPr/>
          <p:nvPr/>
        </p:nvPicPr>
        <p:blipFill>
          <a:blip r:embed="rId1"/>
          <a:stretch/>
        </p:blipFill>
        <p:spPr>
          <a:xfrm>
            <a:off x="128520" y="1506600"/>
            <a:ext cx="6197760" cy="416556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3" descr="C:\Users\Arvay\AppData\Local\Microsoft\Windows\Temporary Internet Files\Content.IE5\6732KGI2\MP900446565[1].jpg"/>
          <p:cNvPicPr/>
          <p:nvPr/>
        </p:nvPicPr>
        <p:blipFill>
          <a:blip r:embed="rId2"/>
          <a:stretch/>
        </p:blipFill>
        <p:spPr>
          <a:xfrm>
            <a:off x="5867280" y="2133720"/>
            <a:ext cx="2289240" cy="296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Заголовок 1" descr=""/>
          <p:cNvPicPr/>
          <p:nvPr/>
        </p:nvPicPr>
        <p:blipFill>
          <a:blip r:embed="rId1"/>
          <a:stretch/>
        </p:blipFill>
        <p:spPr>
          <a:xfrm>
            <a:off x="1322280" y="-85680"/>
            <a:ext cx="6486480" cy="201780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 txBox="1"/>
          <p:nvPr/>
        </p:nvSpPr>
        <p:spPr>
          <a:xfrm>
            <a:off x="539640" y="2060280"/>
            <a:ext cx="7740720" cy="26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01480" indent="-457200" algn="just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Воздух прозрачен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501480" indent="-457200" algn="just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Воздух бесцветен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501480" indent="-457200" algn="just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Воздух не имеет запаха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501480" indent="-457200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При нагревании воздух расширяется,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а при охлаждении сжимается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501480" indent="-457200" algn="just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Воздух плохо проводит тепло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8" name="TextBox 3"/>
          <p:cNvSpPr/>
          <p:nvPr/>
        </p:nvSpPr>
        <p:spPr>
          <a:xfrm>
            <a:off x="576000" y="5013360"/>
            <a:ext cx="824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Первыми стали изучать состав воздуха и его свойства Джозеф Пристли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И Антуан Лавуазье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TextBox 1"/>
          <p:cNvSpPr/>
          <p:nvPr/>
        </p:nvSpPr>
        <p:spPr>
          <a:xfrm>
            <a:off x="2268360" y="554040"/>
            <a:ext cx="518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rebuchet MS"/>
              </a:rPr>
              <a:t>Воздух должен</a:t>
            </a:r>
            <a:r>
              <a:rPr b="0" lang="ru-RU" sz="2800" spc="-1" strike="noStrike">
                <a:solidFill>
                  <a:srgbClr val="4e67c8"/>
                </a:solidFill>
                <a:latin typeface="Trebuchet MS"/>
              </a:rPr>
              <a:t> </a:t>
            </a:r>
            <a:r>
              <a:rPr b="0" lang="ru-RU" sz="2800" spc="-1" strike="noStrike">
                <a:solidFill>
                  <a:srgbClr val="ff0000"/>
                </a:solidFill>
                <a:latin typeface="Trebuchet MS"/>
              </a:rPr>
              <a:t>быть чистым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0" name="TextBox 2"/>
          <p:cNvSpPr/>
          <p:nvPr/>
        </p:nvSpPr>
        <p:spPr>
          <a:xfrm>
            <a:off x="179280" y="1341360"/>
            <a:ext cx="882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600 литров кислорода  необходимо человеку для дыхания только на один день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1" name="TextBox 4"/>
          <p:cNvSpPr/>
          <p:nvPr/>
        </p:nvSpPr>
        <p:spPr>
          <a:xfrm>
            <a:off x="2050920" y="2048040"/>
            <a:ext cx="518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4ac8b"/>
                </a:solidFill>
                <a:latin typeface="Trebuchet MS"/>
              </a:rPr>
              <a:t>Какой чудесный воздух в лесу!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TextBox 5"/>
          <p:cNvSpPr/>
          <p:nvPr/>
        </p:nvSpPr>
        <p:spPr>
          <a:xfrm>
            <a:off x="1449360" y="2563920"/>
            <a:ext cx="672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Не зря растения называют « зелёными лёгкими планеты»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3" name="Picture 2" descr="C:\Users\Arvay\AppData\Local\Microsoft\Windows\Temporary Internet Files\Content.IE5\6732KGI2\MP900427595[1].jpg"/>
          <p:cNvPicPr/>
          <p:nvPr/>
        </p:nvPicPr>
        <p:blipFill>
          <a:blip r:embed="rId1"/>
          <a:stretch/>
        </p:blipFill>
        <p:spPr>
          <a:xfrm>
            <a:off x="6199200" y="3021120"/>
            <a:ext cx="2602080" cy="367020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3" descr="C:\Users\Arvay\AppData\Local\Microsoft\Windows\Temporary Internet Files\Content.IE5\VJJI3RY1\MP900427841[1].jpg"/>
          <p:cNvPicPr/>
          <p:nvPr/>
        </p:nvPicPr>
        <p:blipFill>
          <a:blip r:embed="rId2"/>
          <a:stretch/>
        </p:blipFill>
        <p:spPr>
          <a:xfrm>
            <a:off x="212760" y="2981160"/>
            <a:ext cx="2473200" cy="37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TextBox 2"/>
          <p:cNvSpPr/>
          <p:nvPr/>
        </p:nvSpPr>
        <p:spPr>
          <a:xfrm flipV="1" rot="10800000">
            <a:off x="1116000" y="620280"/>
            <a:ext cx="7128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С заводов и фабрик, от работающих автомобилей в воздух попадают вредные вещества. Они опасны для всего живого, поэтому необходимо заботиться о чистоте воздуха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6" name="Picture 2" descr="C:\Users\Arvay\AppData\Local\Microsoft\Windows\Temporary Internet Files\Content.IE5\EOTK7UVB\MP900390146[1].jpg"/>
          <p:cNvPicPr/>
          <p:nvPr/>
        </p:nvPicPr>
        <p:blipFill>
          <a:blip r:embed="rId1"/>
          <a:stretch/>
        </p:blipFill>
        <p:spPr>
          <a:xfrm>
            <a:off x="6227640" y="2781360"/>
            <a:ext cx="2610000" cy="36576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3" descr="C:\Users\Arvay\AppData\Local\Microsoft\Windows\Temporary Internet Files\Content.IE5\ZSX5XP99\MP900255598[1].jpg"/>
          <p:cNvPicPr/>
          <p:nvPr/>
        </p:nvPicPr>
        <p:blipFill>
          <a:blip r:embed="rId2"/>
          <a:stretch/>
        </p:blipFill>
        <p:spPr>
          <a:xfrm>
            <a:off x="755640" y="2924280"/>
            <a:ext cx="4086360" cy="27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Рисунок 3" descr=""/>
          <p:cNvPicPr/>
          <p:nvPr/>
        </p:nvPicPr>
        <p:blipFill>
          <a:blip r:embed="rId1"/>
          <a:stretch/>
        </p:blipFill>
        <p:spPr>
          <a:xfrm>
            <a:off x="250920" y="682560"/>
            <a:ext cx="8353440" cy="586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02T12:51:33Z</dcterms:created>
  <dc:creator>Arvay</dc:creator>
  <dc:description/>
  <dc:language>en-US</dc:language>
  <cp:lastModifiedBy>Arvay</cp:lastModifiedBy>
  <dcterms:modified xsi:type="dcterms:W3CDTF">2013-03-18T15:52:59Z</dcterms:modified>
  <cp:revision>20</cp:revision>
  <dc:subject/>
  <dc:title>Презентация к уроку «Прозрачный невидимка  ( воздух)»</dc:title>
</cp:coreProperties>
</file>